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5721-E5ED-4BA2-9BE1-75A7FC218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1A19-195F-44C7-B18F-A37EE316A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B38-54CA-49CC-9CA2-178B49F8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DE3-778F-4F30-B146-CDAB47FA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180-FDEA-4A67-A111-00A453A4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F30-1A50-40F4-BF3B-4618D56C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B25-D543-49A3-AA60-2377894D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0D7-0B54-42B4-AFD6-6927BFA1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61E-4B81-4535-9624-84E70DC7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897-8668-4DC5-9DED-8A4331DB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B92-C387-4F68-BDB5-52DA22F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9F9-29E5-4203-A734-86628386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0B6-0F11-4880-9FD1-51F6C4BC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187-93E4-492F-9CD4-ECA5159C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2285-49AB-4141-BE88-0BDC908E9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3068640"/>
            <a:ext cx="784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Рецензирање научног р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575800" y="4869000"/>
            <a:ext cx="394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Проф. др Владимир Живкови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832840" y="2060640"/>
            <a:ext cx="3330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КТОРСКЕ АКАДЕМСКЕ СТУД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400" spc="-1" strike="noStrike">
                <a:solidFill>
                  <a:srgbClr val="000000"/>
                </a:solidFill>
                <a:latin typeface="Arial"/>
              </a:rPr>
              <a:t>ИП8 и ИП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788640" y="6165720"/>
            <a:ext cx="192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Крагујевац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673440" y="28116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а ли се негде учи рецензирањ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2280" indent="-242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2280" indent="-24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Ни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у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свету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,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а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поготово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не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у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нашој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средини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,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не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постоји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систематско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образовање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(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курсеви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,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обука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,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тренинзи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)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за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orbel"/>
              </a:rPr>
              <a:t>реценз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2280" indent="-24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Млад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аучниц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уч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ако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ецензир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од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војих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ментор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ст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ачин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учил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овом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осл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азмењујућ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скуств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олегам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једноставно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утем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окушај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греш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2280" indent="-24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езбедил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стиз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декватних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ј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в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ећ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рој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путстав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ефиниш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м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редниц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давач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асопис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јављу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порук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ратк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електронск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урсев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ак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чин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бр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2280" indent="-24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Од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еколико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годин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страживањ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роцес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ецензирањ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здвојило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ао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засебн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аучн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равац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заинтересован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страживач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вих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аучних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исциплин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итуација у пракси.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0" t="0" r="2854" b="0"/>
          <a:stretch/>
        </p:blipFill>
        <p:spPr>
          <a:xfrm>
            <a:off x="0" y="2381400"/>
            <a:ext cx="914400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*историјски осврт*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2280" indent="-242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2280" indent="-24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в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помињ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ног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шт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нас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зивам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е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наћ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њиз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Етик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ека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писа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шап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л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хв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854-931)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л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х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ир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2280" indent="-24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вод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ужнос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ека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ав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елешк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ањ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ацијен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лико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вак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с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2280" indent="-24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а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ацијен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лече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мр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елешк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гле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окал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ве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ека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цењу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екар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ступа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клад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ажећ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андардим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авил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2280" indent="-24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снов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њихово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кључк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екар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уже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докнад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штет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ран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ациј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2280" indent="-24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в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истовет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рсто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ко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убликовањ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ечењ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гд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утор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екар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ве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ека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еђусоб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на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дентитет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*историјски осврт*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69280" indent="-26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9280" indent="-26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на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ванич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т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и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ве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аљевс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уш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динбур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1731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да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рн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ира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л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9280" indent="-26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вадесет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њива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утраш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9280" indent="-26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хнич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граниче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множав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укопи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редниш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ен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ж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кључи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уп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ручња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ступ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ич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д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и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укоп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9280" indent="-26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љ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њива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асопи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cience i Journal of the American Medical Association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1940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Xerox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токопи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ш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ерцијал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1959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љ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ал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обичај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*ВРСТЕ*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ностру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еп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„Single Blind“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ен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т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ут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уто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т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е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на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шћ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востру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еп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„Double Blind“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ен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т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ут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уто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т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воре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„Open Revi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“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е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воре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т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зн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*ПОДВРСТЕ*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2440" indent="-26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Трансфер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иј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(„Transferable Review“)  –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осебан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једноструко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лепог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лучају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иј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угериш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убликовањ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другом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часопису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иј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ренос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друг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часопис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редлогу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уредник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агласност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ауто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Колаборативн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иј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(„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llaborative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evie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w“)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врст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енат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заједнички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роцењују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ачињавају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заједнички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извештај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редлог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енат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арађују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ауторим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моди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фиковању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док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достигне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огодан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убликовање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Ов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оследњ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врст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неки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начин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родужетак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исања</a:t>
            </a:r>
            <a:r>
              <a:rPr b="0" i="1" lang="vi-V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а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иј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убликовањ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(„Post Publication Review“) -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одвиј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убликовањ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коментар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дискусионих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форум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лично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О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вај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тип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доступан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вим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експертим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лаицим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могао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роценит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врсисходност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ојединачн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иј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знат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ко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аутор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какв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биографиј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библиографија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колико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рецензент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његово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мишљење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поуздан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новне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учног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912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Етич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аспект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907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5000" indent="-225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би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учн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н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двосмисле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истич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ињениц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убликова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колик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ов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ар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да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ој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лас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ој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па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б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убликова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ећ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а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редник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пути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матр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експертом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лас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ар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вољ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ручним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седује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вољ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нањ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же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цени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валитет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ругог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ти неког од ваших радова с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ложи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начаја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у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троши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ст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ремен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нализира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а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зулта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ам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гериса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авац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м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прави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хватањ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ич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рад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треб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л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њих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с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ма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гле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ручњак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ек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мпетентност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а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поручи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т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Етич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аспект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907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38680" indent="-23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8680" indent="-238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8680" indent="-238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.....Са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а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чеку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мпетент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рект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рз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цени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ког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ругог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раживач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могне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вој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чин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о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ољ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8680" indent="-238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Зато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рецензирање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треба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прихватити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као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част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признање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али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као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научну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професионалну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колегијалну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моралну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обавез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8680" indent="-238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Чак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и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чињеница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ецензената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анашњој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ауци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ије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овољно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ризнат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и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задовољавајуће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вреднован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ме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бити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мотив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ецензирање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одбије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без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ваљаних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оправданих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азл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8680" indent="-238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8680" indent="-238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Напротив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треба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рутински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прихвати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осим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ако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нема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конкретних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разлога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супротно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1240" indent="-201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rbel"/>
              </a:rPr>
              <a:t>НЕПРИСТРАСНОСТ И ПРЕДРАСУ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1240" indent="-201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1240" indent="-20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ез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зи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1240" indent="-201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дентите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на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утор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рнут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1240" indent="-201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е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асопис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ига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на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еом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тицаја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а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ционал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асопис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1240" indent="-201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дентите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уто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номира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зна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учниц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лад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позна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1240" indent="-201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рекл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уто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ржав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нституциј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ционалнос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лигиј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л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…)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ј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МОРА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БИТИ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ИСТОВЕТНА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КВАЛИТЕ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1240" indent="-201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1240" indent="-20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држај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м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тица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ном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асопи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ном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уто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иш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с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зентовано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раживањ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зулта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чин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ак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умаче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јашње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ражив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Zaharie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nd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Osoian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казал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тивациј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а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хват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пак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вис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валите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путаци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асопи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ми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1240" indent="-20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387160" y="278136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УВОДНА РАЗМАТР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rbel"/>
              </a:rPr>
              <a:t>КАКО СВЕ ИЗГЛЕДА ИЗ УГЛА АУ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5000" indent="-225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rbel"/>
              </a:rPr>
              <a:t>КОМПЕТЕНТНОСТ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г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хва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цен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ис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вољ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мпетента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це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ем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ис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гова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његовој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ручнос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седу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воља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ив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нањ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њ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ка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м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елов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ва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мпетентнос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к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хва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акво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ас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ра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знач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елов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и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цен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еб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аж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ишље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ругих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мпетентниј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огађ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ецензент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ам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ронађ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олег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мож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урадит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роцен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ових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елов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т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тим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лучајевим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оректно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звештај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авест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о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в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учествовао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ецензирањ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тим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обезбедит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руг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обиј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ризнањ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вој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вољ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то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урад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оново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бо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итањ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мпетентнос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к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асопис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ив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пци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гово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прихватам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ецензира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одбијам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ецензирам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исам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омпетентан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област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лич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5280" y="76500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1760" indent="-221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rbel"/>
              </a:rPr>
              <a:t>СУКОБ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rbel"/>
              </a:rPr>
              <a:t>ИНТЕРЕСА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760" indent="-221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760" indent="-221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ак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редниц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бор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а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уд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гледа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стој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тенцијал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коб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нтере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међ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уто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ика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ебал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шаљ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радницим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уто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њихов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легам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нституци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радницим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јект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лич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г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век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ма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ви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весн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итуацијам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ешк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бећ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760" indent="-221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П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сто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учн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лас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рл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ск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ал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роје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раживач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ал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роје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асопи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ав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ређен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емам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рл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ешк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нгажова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мпетентно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и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акар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ка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радник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понен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ком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у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760" indent="-221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чеку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л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акво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коб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нтере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ар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дн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уторо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би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760" indent="-221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Ево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једног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драстичног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примера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један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од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коаутора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добио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позив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рецензира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сопствени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! (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напору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нађе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доброг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рецензента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уредник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направио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превид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76500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5000" indent="-225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рл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збиља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хтева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са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треб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двој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с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рем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раживањ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казал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ич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опход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ар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в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у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чита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в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у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вршни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руг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у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етаљ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валитет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треб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иш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ка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иш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хватањ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ив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тенцијал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бр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цен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сполаж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вољн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ремено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валитет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рад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ок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бијено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ред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ом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поручљив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зе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зир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гућнос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јављивањ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предвиђених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одложних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аве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г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гроз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дноше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двиђено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азва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кораче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ок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акв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итуациј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000" indent="-22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Брзе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површне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непотпуне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рецензије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чине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штету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ауторима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часопису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рецензен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76500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ритичк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ректн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бјективн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цензират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држај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р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ак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итањ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зумеван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ришћењ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огобатног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чник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ног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јасних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јмов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тежав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екст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р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бр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огич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рганизова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јбољ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уд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хронолошк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ложе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асним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зроч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следичним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ез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Т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екст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р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зумљив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сечном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итаоц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клјучујућ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ног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ској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лас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ематик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вак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јам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краћениц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ехник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…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ис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пшт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зна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рај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писан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ефинис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лас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родних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ук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од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чун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оменклату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диниц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знак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ра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клад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UPAC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порукам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еђународн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истемо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диниц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76500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860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ритичк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ректн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бјективн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цензират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rbel"/>
              </a:rPr>
              <a:t>*општа правила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слов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ратак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аса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имулатива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ач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ражав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држај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држ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краћениц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кроним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формул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зив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ц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во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краћен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ерзиј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ћ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целин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б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итаоц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ћ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снов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њег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лучи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ћ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ита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це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т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р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држа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ас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ефиниса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циљ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етод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ехник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ришће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гле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пш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кључ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ључ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ч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мај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функциј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ре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ч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слов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могућ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рз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ачн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траг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азам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тератур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ључ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ч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носи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јмов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држа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слов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опште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јмов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р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н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ћ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моћ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лажењ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родних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ов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азам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76500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860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ритичк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ректн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бјективн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цензират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rbel"/>
              </a:rPr>
              <a:t>*општа правила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слов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ратак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аса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имулатива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ач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ражав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држај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држ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краћениц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кроним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формул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зив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ц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во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краћен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ерзиј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ћ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целин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б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итаоц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ћ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снов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њег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лучи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ћ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ита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це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т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р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држа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асн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ефиниса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циљ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етод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ехник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ришће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гле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пш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кључ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ључ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ч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мај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функциј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ред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ч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слов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могућ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рз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ачн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траг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азам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тератур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ључ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ч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носит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јмов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држа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слов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општен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јмов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р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н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еће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моћ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лажењ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родних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ов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азам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76500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та је важно код оцене Увода рад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0" t="0" r="52522" b="13022"/>
          <a:stretch/>
        </p:blipFill>
        <p:spPr>
          <a:xfrm>
            <a:off x="684360" y="1628640"/>
            <a:ext cx="7127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76500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та је важно код оцене Материјала и метода рад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56731" t="0" r="7113" b="13022"/>
          <a:stretch/>
        </p:blipFill>
        <p:spPr>
          <a:xfrm>
            <a:off x="1042920" y="1268280"/>
            <a:ext cx="7058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76500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та је важно код оцене Резултата и Дискусије рад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7908" t="0" r="57580" b="0"/>
          <a:stretch/>
        </p:blipFill>
        <p:spPr>
          <a:xfrm>
            <a:off x="1258920" y="1413000"/>
            <a:ext cx="67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НОВНИ ПОЈМ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цензирање је камен темељац у процесу објављивања научних радова, али и често занемарен фактор развоја целокупне нау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сновано је на идеји да се резултати сваког научног истраживања морају стручно оценити од стране експерата – рецензената (енглески „Reviewer“ или „Refеrее“), пре него се презентују научној заједници и јав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76500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та је важно код оцене Закључака рад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56738" t="0" r="7908" b="0"/>
          <a:stretch/>
        </p:blipFill>
        <p:spPr>
          <a:xfrm>
            <a:off x="1258920" y="1341360"/>
            <a:ext cx="640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76500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8600" indent="-228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bl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Publons</a:t>
            </a: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  -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ј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есплатан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рвис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уте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е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раживач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змењу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вој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куств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искуту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бија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изн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лег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ређив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академских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ублик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ак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јт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акнут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исиј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рви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ублонс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напред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бр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ражив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ришћење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наг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експертско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(„…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to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speed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up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research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b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y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harnessing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the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po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er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of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pert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peer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r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е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vi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w.“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Циљ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рви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елатнос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твор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ерљив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казатељ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ручнос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оприно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јединачних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раживач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лас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јо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ба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страживач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мог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ати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оједин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часопи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познајућ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ак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лик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редниц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слањај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њихов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труч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1557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6040" indent="-266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bl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6040" indent="-266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040" indent="-266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блон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дели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обелов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град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јбоље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ценз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ђ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тск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асопис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зив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"Sentinels of Science Award"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„Sentinel“- A soldier or guard whose job it is to stand and keep watch; "Expert peer reviewers are the Sentinels of the Science. They protect the world from false findings that could set back advances in human knowlege by decades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1267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рука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стојећим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новим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рецензент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Rectangle 3" descr=""/>
          <p:cNvPicPr/>
          <p:nvPr/>
        </p:nvPicPr>
        <p:blipFill>
          <a:blip r:embed="rId1"/>
          <a:stretch/>
        </p:blipFill>
        <p:spPr>
          <a:xfrm>
            <a:off x="573120" y="2846520"/>
            <a:ext cx="80406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НОВНИ ПОЈМ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2276280"/>
            <a:ext cx="82296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С обзиром да научни резултати ефективно „не постоје“ све док нису у писаној форми објављени у научном часопису, сумње и коментари изражени од стране рецензената заузимају важно место у целокупном научном проц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Поред тога, одобрење рецензената да се научне информације објаве и размене је један од најснажнијих израза професионалног признања појединаца/групе и инструмент друштвене контроле у научној заједн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Улога рецензен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773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бог изузетног значаја рецензирања за развој науке и друштво уопште, од рецензената се очекује 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 буду компетентни, експерти у одговарајућој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поседују довољно знања и искуства да процене да ли су у описаном истраживању коришћене прикладне методе и/или експерименти, да ли су добијени резултати тачни и поуздани, а интерпретација резултата разумна и заснована на постојећим знањ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тражња за рецензенти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20606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ој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асопис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јављених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ланак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ледњих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већав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вероватн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зи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2012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ојал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2800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асопис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јави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1,8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1,9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лан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тражња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ецензентима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е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 су рецензен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падниц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адемск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једниц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ључе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разовањ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раживањ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Особе са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коро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увек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а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бројеним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другим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обавезама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достатком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врем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налажењ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ент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вољ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петентн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ремн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љн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це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днет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асопис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м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редници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ави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зазов?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редниц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ра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рају рецензен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i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c</a:t>
            </a:r>
            <a:r>
              <a:rPr b="0" i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нов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имајућ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зир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њихов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лификац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ори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бликовањ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егавајућ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коб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р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иректног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онтактирања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орају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отивисати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сте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ихвате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ецензирају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 - НАЈВАЖНИЈЕ</a:t>
            </a:r>
            <a:r>
              <a:rPr b="1" i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орба са рецензенти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в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веде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жалост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Corbel"/>
              </a:rPr>
              <a:t>драматично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спорав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учн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комуника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о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злог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зузетн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ажност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ст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епознав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руштвено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начај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ирањ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реднов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цензена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јер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јчешћ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ема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онкретн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омпензациј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њихов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ложен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ру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д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вр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(Здрави) мотиви за прихватање рецензије: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- обезбеђивањ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аучног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нтегритет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сећај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професионалн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баве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чн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азлози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жељ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се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остане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току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нови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идејама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релевантном</a:t>
            </a:r>
            <a:r>
              <a:rPr b="0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литератур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(Интересни) мотиви за прихватање рецензиј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рецензирањ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с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вреднује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напредовањ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i="1" lang="vi-VN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orbel"/>
              </a:rPr>
              <a:t>карије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орба са рецензенти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916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040" indent="-266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а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ир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врше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вес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блематич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леме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зн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литетни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ол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ов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уч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зн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кр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040" indent="-266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Рецензирањ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уствар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кључн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фактор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откривањ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лажни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неверодостојни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фалсификовани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040" indent="-266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иод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сетак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редниц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ешћ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раћа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лађи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учници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тпоставља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тив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рад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и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040" indent="-266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кус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ри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кспер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хваће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хтев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нзирање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ест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ушта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лади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радници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и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нтор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во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ви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ервиз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вештај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чин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7:59:30Z</dcterms:created>
  <dc:creator>Vlada Zivkovic</dc:creator>
  <dc:description/>
  <dc:language>en-US</dc:language>
  <cp:lastModifiedBy>ХХХ</cp:lastModifiedBy>
  <dcterms:modified xsi:type="dcterms:W3CDTF">2020-05-23T10:46:48Z</dcterms:modified>
  <cp:revision>201</cp:revision>
  <dc:subject/>
  <dc:title>Slide 1</dc:title>
</cp:coreProperties>
</file>